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7DD-B6F3-464F-B6F8-3EEE18D0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D95-0E8F-4E05-AEB2-46CD07DF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41B-3152-4A0C-8BB8-55634FBE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3DD-57A9-426B-9D72-458F64F9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C6A-87C4-4776-BFBF-4251AF47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ACD-9387-464C-922F-E28531CA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08B-9682-4A6E-8430-33116C26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9DE-0654-442A-B0B1-20BAB1B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8D4-AD80-44DF-A1DD-6C97B4D6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350-A301-4E12-8530-3A373F38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B82-767A-401F-B609-6A52BB6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646-3A0C-492B-802A-5C94C7A6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76BF-47D3-4F5B-8128-BD2CD04CD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e3FG4EOgyU" TargetMode="External"/><Relationship Id="rId2" Type="http://schemas.openxmlformats.org/officeDocument/2006/relationships/hyperlink" Target="http://www.youtube.com/watch?v=xSB9LIXEtTw" TargetMode="External"/><Relationship Id="rId3" Type="http://schemas.openxmlformats.org/officeDocument/2006/relationships/hyperlink" Target="http://www.youtube.com/watch?v=xSB9LIXEtTw" TargetMode="External"/><Relationship Id="rId4" Type="http://schemas.openxmlformats.org/officeDocument/2006/relationships/hyperlink" Target="http://www.youtube.com/watch?v=xSB9LIXEtTw" TargetMode="External"/><Relationship Id="rId5" Type="http://schemas.openxmlformats.org/officeDocument/2006/relationships/hyperlink" Target="http://www.youtube.com/watch?v=0BanwQzBQGM" TargetMode="External"/><Relationship Id="rId6" Type="http://schemas.openxmlformats.org/officeDocument/2006/relationships/hyperlink" Target="http://www.schnitzelbank.com/poster.htm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chna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lein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peak English in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chnitzel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fried and Ro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igfried and 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ünchen steht ein Hofbräu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6:18:56Z</dcterms:created>
  <dc:creator>udsd</dc:creator>
  <dc:description/>
  <dc:language>en-US</dc:language>
  <cp:lastModifiedBy>udsd</cp:lastModifiedBy>
  <dcterms:modified xsi:type="dcterms:W3CDTF">2009-10-13T18:18:54Z</dcterms:modified>
  <cp:revision>3</cp:revision>
  <dc:subject/>
  <dc:title>Sigfried and Roy</dc:title>
</cp:coreProperties>
</file>